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9.wmf" ContentType="image/x-wmf"/>
  <Override PartName="/ppt/media/image14.png" ContentType="image/png"/>
  <Override PartName="/ppt/media/image34.wmf" ContentType="image/x-wmf"/>
  <Override PartName="/ppt/media/image8.wmf" ContentType="image/x-wmf"/>
  <Override PartName="/ppt/media/image13.png" ContentType="image/png"/>
  <Override PartName="/ppt/media/image33.wmf" ContentType="image/x-wmf"/>
  <Override PartName="/ppt/media/image16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11.png" ContentType="image/png"/>
  <Override PartName="/ppt/media/image36.wmf" ContentType="image/x-wmf"/>
  <Override PartName="/ppt/media/image6.wmf" ContentType="image/x-wmf"/>
  <Override PartName="/ppt/media/image32.wmf" ContentType="image/x-wmf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9.wmf" ContentType="image/x-wmf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8D26-0B84-46BB-BAC3-9E516EA7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576-AB9B-4B65-AE04-DFBA80C0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6828-91BD-410C-80C4-ECD55EE3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7B5-CF08-44D6-9D39-609559B6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8EC-913F-45F0-85AB-9CDAF906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EAB-74AF-437D-A018-CA21DCC3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C4B-60A5-40CC-87EA-0AADFAB0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2FF-14A1-403F-AEA4-26E3B841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B0A-421A-4083-8418-8815DA96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97A-9C32-4F7B-B41A-2DC4B45E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111B-E0A1-47AA-A9FF-C95E9CDD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AF1-FF41-4EB6-B2E3-14DB201A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F5C5-4A67-44C2-AD05-1EEC66E9D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a ley de Benford para el segundo dígito y los resultados electorales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n Mé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uis Horacio Gutiérre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AM-Iztapala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iliano Calder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acultad de Ciencias, U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079880" cy="5851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239240" y="623736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bane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4680" y="836640"/>
            <a:ext cx="24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alores de ji^2 para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eo de votos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ele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xicanas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55600" y="450864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Los valores de ji^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superiores a 16.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son preocup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3240" y="299736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Conteo de dígito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ivel secció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4003920" cy="5851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167960" y="630864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bane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84680" y="836640"/>
            <a:ext cx="24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alores de ji^2 para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eo de votos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ele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xicanas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83240" y="299736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Conteo de dígito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ivel casilla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5600" y="450864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Los valores de ji^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superiores a 16.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son preocup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4356000" y="404640"/>
          <a:ext cx="410688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404640"/>
                    <a:ext cx="410688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760320" y="1052640"/>
            <a:ext cx="218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alores de ji^2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conteo de v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r dist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9600" y="371628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Los valores de ji^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superiores a 16.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son preocup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2484360" y="274680"/>
          <a:ext cx="4195800" cy="62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74680"/>
                    <a:ext cx="419580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2048040" y="274680"/>
          <a:ext cx="5046480" cy="58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274680"/>
                    <a:ext cx="504648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2556000" y="44280"/>
          <a:ext cx="3897360" cy="666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44280"/>
                    <a:ext cx="3897360" cy="666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556000" y="115920"/>
          <a:ext cx="3925800" cy="658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5920"/>
                    <a:ext cx="3925800" cy="65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333520" y="274680"/>
          <a:ext cx="4345200" cy="60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3520" y="274680"/>
                    <a:ext cx="4345200" cy="60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650960" y="274680"/>
          <a:ext cx="5840280" cy="58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0960" y="274680"/>
                    <a:ext cx="584028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tos con alteraciones gr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332000" y="907920"/>
          <a:ext cx="6119640" cy="567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907920"/>
                    <a:ext cx="611964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ey de Benf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43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istribución logarítmica del primer dígito de varias cantidades que ocurren naturalmente y que son resultado de operaciones aritmé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835280" y="3718080"/>
          <a:ext cx="51847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718080"/>
                    <a:ext cx="51847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599600" y="62373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ill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851280" y="1341360"/>
          <a:ext cx="4830840" cy="43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341360"/>
                    <a:ext cx="483084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7312320" y="630864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bane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600" y="2781360"/>
            <a:ext cx="253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dos que presen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nomalías en el cont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 vo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consideran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eccion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sidente, sen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diput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042920" y="1628640"/>
          <a:ext cx="7643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643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131200" y="620640"/>
            <a:ext cx="55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bución de dígitos para el distrito 2 de Chihuah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547640" y="1619280"/>
          <a:ext cx="6337440" cy="43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619280"/>
                    <a:ext cx="63374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915200" y="620640"/>
            <a:ext cx="55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bución de dígitos para el distrito 2 de Chihuah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755640" y="1484280"/>
          <a:ext cx="794232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79423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131200" y="620640"/>
            <a:ext cx="55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bución de dígitos para el distrito 2 de Chihuah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684360" y="1916280"/>
          <a:ext cx="7848360" cy="42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16280"/>
                    <a:ext cx="784836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915200" y="620640"/>
            <a:ext cx="55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bución de dígitos para el distrito 2 de Chihuah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826920" y="1946160"/>
          <a:ext cx="7632720" cy="404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46160"/>
                    <a:ext cx="763272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915200" y="549360"/>
            <a:ext cx="55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bución de dígitos para el distrito 2 de Chihuah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900000" y="2135160"/>
          <a:ext cx="7488360" cy="366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35160"/>
                    <a:ext cx="748836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131200" y="620640"/>
            <a:ext cx="55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bución de dígitos para el distrito 2 de Chihuah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539640" y="1052640"/>
          <a:ext cx="8229600" cy="53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052640"/>
                    <a:ext cx="822960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486080" y="404640"/>
            <a:ext cx="64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bución de dígitos para el distrito 29 del Estado de Mé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395280" y="1197000"/>
          <a:ext cx="8229600" cy="537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29600" cy="53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486080" y="404640"/>
            <a:ext cx="64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bución de dígitos para el distrito 29 del Estado de Mé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468360" y="981000"/>
          <a:ext cx="8229600" cy="537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81000"/>
                    <a:ext cx="8229600" cy="53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486080" y="404640"/>
            <a:ext cx="64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bución de dígitos para el distrito 29 del Estado de Mé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ey de Benf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979640" y="3556080"/>
          <a:ext cx="5472000" cy="24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556080"/>
                    <a:ext cx="5472000" cy="24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7599600" y="62373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ill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700280"/>
            <a:ext cx="76438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istribución logarítmica del segundo dígito de varias cantidades que ocurren naturalmente y que son resultado de operaciones aritmé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68360" y="1052640"/>
          <a:ext cx="8229600" cy="537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29600" cy="53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486080" y="404640"/>
            <a:ext cx="64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bución de dígitos para el distrito 29 del Estado de Mé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68360" y="981000"/>
          <a:ext cx="8229600" cy="537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81000"/>
                    <a:ext cx="8229600" cy="53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486080" y="404640"/>
            <a:ext cx="64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bución de dígitos para el distrito 29 del Estado de Mé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468360" y="1125360"/>
          <a:ext cx="8229600" cy="53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22960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486080" y="404640"/>
            <a:ext cx="64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bución de dígitos para el distrito 29 del Estado de Mé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distribución del segundo dígito en numerosos distritos no se ajusta a la ley de Ben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332000" y="2133720"/>
          <a:ext cx="6851160" cy="4136400"/>
        </p:xfrm>
        <a:graphic>
          <a:graphicData uri="http://schemas.openxmlformats.org/drawingml/2006/table">
            <a:tbl>
              <a:tblPr/>
              <a:tblGrid>
                <a:gridCol w="3425400"/>
                <a:gridCol w="3425760"/>
              </a:tblGrid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úmero de anomalí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úmero de distri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e distritos con anomalí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4038480" cy="4201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48320" y="1746360"/>
            <a:ext cx="4038480" cy="4233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19600" y="1628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guasca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23600" y="1557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hihuah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43800" y="611352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akahashi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666720"/>
            <a:ext cx="65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ferencia porcentual Calderón-AMLO contra porcentaje de votos anul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746360"/>
            <a:ext cx="4038480" cy="4233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48320" y="1746360"/>
            <a:ext cx="4038480" cy="4233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80320" y="623736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akahashi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5800" y="1341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to 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6880" y="13413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uanaju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4038840" cy="4233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4038480" cy="4233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02880" y="1484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r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51600" y="148428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uevo Le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80320" y="623736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akahashi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estados como Chihuahua, Guanajuato y Nuevo León, el porcentaje de votos nulos es mayor cuando la diferencia  Calderón-AMLO es me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porcentaje de representantes de casillas de la coalición PBT era muy baja en los estados arriba mencio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posible que en esos estados se haya anulado un porcentaje inusualmente elevado de votos correspondientes a P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conteo del segundo dígito para la votación se aparta significativamente de la distribución de Ben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posible que haya habido alteraciones en el conteo de votos que induzcan valores de ji^2 excepcionalmente elevados para numerosos distr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necesario hacer un recuento de todos los votos para verificar los datos proporcionados por el 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619280" y="1052640"/>
            <a:ext cx="575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gradec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Universidad de Corn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W. R. Meb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Y. Takahas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Universidad de Berkel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J. Sekh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istribución generaliz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32000" y="1700280"/>
          <a:ext cx="65278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00280"/>
                    <a:ext cx="65278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7599600" y="62373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ill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ekmann, A. (2004) Not the First Digit! Using Benford’s Law to Detect Fraudulent Scientific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ill, T. P. (1995) A Statistical Derivation of the Significant-Digit Law. 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Statistical Science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(4), 354-3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bane, W. R. (2006) Election Forensics: Vote Count and Benford’s Law. 2006 Summer Meeting the Political Methodology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akahashi (2006). Comunicación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7983720" cy="4260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07600" y="61657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ekmann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24640" y="549360"/>
            <a:ext cx="718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babilidades predichas por la ley de Benford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ígitos hasta de cuarto 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743520" cy="4392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520320" y="60930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ekmann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41760" y="404640"/>
            <a:ext cx="56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bución del primer dígito para datos no fabr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743880" cy="435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47240" y="6021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ekmann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42840" y="404640"/>
            <a:ext cx="587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ribución del segundo dígito para datos no fabr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ara resultados electoral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distribución del primer dígito no cumple con la ley de Benford. Esto se debe a que el número de candidatos es limitado y mucho menor que el número de vo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distribución de los dígitos de orden superior (segundo, tercero, etc.) sí tiene que cumplir con la ley de Benford. Estos números sólo se derivan de operaciones aritméticas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conteo del segundo dígito a nivel sección debe ajustarse a la distribución de Ben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814716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bondad del ajuste de los datos observados con respecto a la distribución esperada se determina mediante la fu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2997360"/>
          <a:ext cx="87624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997360"/>
                    <a:ext cx="8762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080320" y="335772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ji cuadr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4724280"/>
            <a:ext cx="81468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valores observados serán confiables si ji cuadrada es menor que el valor crítico 16.91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02:44:44Z</dcterms:created>
  <dc:creator>lhgut</dc:creator>
  <dc:description/>
  <dc:language>en-US</dc:language>
  <cp:lastModifiedBy> Luis </cp:lastModifiedBy>
  <dcterms:modified xsi:type="dcterms:W3CDTF">2006-07-24T20:31:35Z</dcterms:modified>
  <cp:revision>11</cp:revision>
  <dc:subject/>
  <dc:title>Ley de Benford</dc:title>
</cp:coreProperties>
</file>